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A1B-7D38-457E-B6BF-5D77542E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EAB-F168-4387-A876-F613A088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6ADC-E32D-427C-A784-A0287D64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86D-90D5-4598-ADD7-675C5A09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D6B-01C0-47B6-BC84-520C13A4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E10-D27A-4B7A-8F8B-41C6A240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15C-B91B-4A92-A9DE-CB635828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F09-3725-4B58-ABDE-6B1E0383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1D9-1922-44B8-85C4-ED57B329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002-7930-47A6-B4DE-ED9005E2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436-9B0E-4880-AB33-CED4FC43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EC8-C2AD-4F40-A5B3-6B1D19A5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6FFD-54D3-4BF3-AD2F-041793547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lson's 14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An end to all secret diplo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Freedom of the seas in peace and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The reduction of trade barriers among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The general reduction of arm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The adjustment of colonial claims in the interest of the inhabitants as well as of the colonial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-13. Redrawing boundarie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. A league of nations to protect "mutual guarantees of political independence and territorial integrity to great and small nations alike."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Woodrow Wilson"/>
          <p:cNvPicPr/>
          <p:nvPr/>
        </p:nvPicPr>
        <p:blipFill>
          <a:blip r:embed="rId1"/>
          <a:stretch/>
        </p:blipFill>
        <p:spPr>
          <a:xfrm>
            <a:off x="7315200" y="152280"/>
            <a:ext cx="1565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1:44:03Z</dcterms:created>
  <dc:creator> Dan Hoppe</dc:creator>
  <dc:description/>
  <dc:language>en-US</dc:language>
  <cp:lastModifiedBy>wnichols</cp:lastModifiedBy>
  <dcterms:modified xsi:type="dcterms:W3CDTF">2010-11-08T15:09:51Z</dcterms:modified>
  <cp:revision>1</cp:revision>
  <dc:subject/>
  <dc:title>Wilson's 14 Points</dc:title>
</cp:coreProperties>
</file>